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35E-14B6-4171-8377-4DAB09BD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AD8E-5D07-4393-916D-4B1B20D8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000-801E-4EC1-ACD4-013DEDA1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7362-2F10-4BC1-8DEF-FA5E8C6C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A2CC-F13A-43CA-8755-68789C5B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F225-6770-4977-9FCE-2F7353DB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D26E-4AE9-49FB-ACFE-2B4CE42D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FCFD-3FF2-460A-8B59-EFE36A9B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FF45-0C45-4736-8CEE-769E6C12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F3BF-8473-47DE-9677-9B32DA0E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EFE6-017F-4EC5-96A4-7D68A2B5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21CC-2D93-41F9-B170-2E09873D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AB9F-441A-432E-8460-C72327DB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3B6E-D430-4A27-B819-926E3FA5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495F-AA52-4A5C-B83F-A1BE5070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D776-6E90-4225-A697-B1DB2025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EBF3-127B-4B8E-A847-AD0969DF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ABA-440B-433F-8170-F52360D2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1DE-840B-469D-AC90-648649E6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BFD-05D3-4CB5-8D88-591CDACB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294-86E3-43D9-AAA5-51C1EE79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3B4-1B98-4027-93FF-BD4714DE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4CF-28DD-4FED-B776-395C7EF3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60A9-1721-4ACE-8389-AF724A35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FB6A-399C-4980-9443-AB98E017F01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DF2F-847F-4A7E-A741-AD75717C900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5"/>
          <p:cNvSpPr txBox="1"/>
          <p:nvPr/>
        </p:nvSpPr>
        <p:spPr>
          <a:xfrm>
            <a:off x="971640" y="2565360"/>
            <a:ext cx="7543800" cy="1432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олибактериоз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нтиген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 – соматиче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– капсуль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 – жгутико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images[23]"/>
          <p:cNvPicPr/>
          <p:nvPr/>
        </p:nvPicPr>
        <p:blipFill>
          <a:blip r:embed="rId1"/>
          <a:stretch/>
        </p:blipFill>
        <p:spPr>
          <a:xfrm>
            <a:off x="5580000" y="2276640"/>
            <a:ext cx="287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атогеннос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пределяе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утрибрюшинным заражением молодых белых мышей, массой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3 – 15 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 патогенных штаммов отмеч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дуциро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рмолабильного экзотокс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рмостабильного эндотокс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либактериоз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ибактериоз (colibacteriosis) (эшерихиоз, колидиарея, колисепсис) – остропротекающая болезнь молодняка сельскохозяйственных животных, проявляющаяся септицемией, токсемией и энтерит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орфолог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36957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амотрицательная палочка с закругленными концам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р и капсул не образует, за исключением отдельных штаммов серогрупп 08, 09, 0101.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вижные бактерии, чаще перетр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полагается одиноч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9" descr="Безымянный[1]"/>
          <p:cNvPicPr/>
          <p:nvPr/>
        </p:nvPicPr>
        <p:blipFill>
          <a:blip r:embed="rId1"/>
          <a:stretch/>
        </p:blipFill>
        <p:spPr>
          <a:xfrm>
            <a:off x="4788000" y="2060640"/>
            <a:ext cx="4105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ультуральные свойств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типу дыхания – аэро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тимальная температура роста – 37 – 3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тимальное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реды -   7,0 – 7,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7" descr="images[21]"/>
          <p:cNvPicPr/>
          <p:nvPr/>
        </p:nvPicPr>
        <p:blipFill>
          <a:blip r:embed="rId1"/>
          <a:stretch/>
        </p:blipFill>
        <p:spPr>
          <a:xfrm>
            <a:off x="5435640" y="2133720"/>
            <a:ext cx="3043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ясо – пептонный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бульон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утнение среды, с образованием легко разбивающегося осад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Рисунок4"/>
          <p:cNvPicPr/>
          <p:nvPr/>
        </p:nvPicPr>
        <p:blipFill>
          <a:blip r:embed="rId1"/>
          <a:stretch/>
        </p:blipFill>
        <p:spPr>
          <a:xfrm>
            <a:off x="5219640" y="1916280"/>
            <a:ext cx="360036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ясо – пептонный агар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16 – 20 часов вырастают влажные, круглые колонии, с ровными краями и гладкой поверхностью, серовато – белого цв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8" descr="images[55]"/>
          <p:cNvPicPr/>
          <p:nvPr/>
        </p:nvPicPr>
        <p:blipFill>
          <a:blip r:embed="rId1"/>
          <a:stretch/>
        </p:blipFill>
        <p:spPr>
          <a:xfrm>
            <a:off x="5580000" y="2349360"/>
            <a:ext cx="302436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реда Энд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ферментации глюкозы – малиново – красные коло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отсутсвии ферментации – желтое окрашивание, т.е. отрицательный результа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7" descr="image2[1]"/>
          <p:cNvPicPr/>
          <p:nvPr/>
        </p:nvPicPr>
        <p:blipFill>
          <a:blip r:embed="rId1"/>
          <a:stretch/>
        </p:blipFill>
        <p:spPr>
          <a:xfrm>
            <a:off x="5003640" y="2133720"/>
            <a:ext cx="3600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атологический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  материа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убчатая к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ля печени с желчным пузыр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рдце у аорты, перевязанное лигатур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ловной моз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резок тонкого отдела кишеч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лезе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ч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7" descr="Рисунок3"/>
          <p:cNvPicPr/>
          <p:nvPr/>
        </p:nvPicPr>
        <p:blipFill>
          <a:blip r:embed="rId1"/>
          <a:stretch/>
        </p:blipFill>
        <p:spPr>
          <a:xfrm>
            <a:off x="4915080" y="2044800"/>
            <a:ext cx="369540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Устойчивос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очве, навозе, воде и в животноводческих помещениях возбудитель сохраняется 1-2 месяц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убительно действуют на эшерихий: 4 % горячий раствор гидроокиси натрия, осветленный раствор хлорной извести с содержанием 3 % активного хлора, 20 % взвесь свежегашеной изве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7" descr="Рисунок2"/>
          <p:cNvPicPr/>
          <p:nvPr/>
        </p:nvPicPr>
        <p:blipFill>
          <a:blip r:embed="rId1"/>
          <a:stretch/>
        </p:blipFill>
        <p:spPr>
          <a:xfrm>
            <a:off x="5724360" y="1773360"/>
            <a:ext cx="3168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9:27:03Z</dcterms:created>
  <dc:creator>Студент</dc:creator>
  <dc:description/>
  <dc:language>en-US</dc:language>
  <cp:lastModifiedBy>Ошакбаева</cp:lastModifiedBy>
  <dcterms:modified xsi:type="dcterms:W3CDTF">2013-11-07T13:20:52Z</dcterms:modified>
  <cp:revision>3</cp:revision>
  <dc:subject/>
  <dc:title> Колибактериоз</dc:title>
</cp:coreProperties>
</file>